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3BC2C-CF12-4588-913A-B0E993D40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22BA8-38B6-49FB-812D-D4B0D71D5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B2CEC-ABAD-4876-8C6C-4ADA31114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C18E1-4348-4132-BEE1-132424A9B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2FC75-0F85-480E-B6DD-C61A0AC02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06B51-655C-45FD-BA4A-3CE35C14A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E6FCD-7A68-4A37-87CD-9068433D7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14F25-48DC-41E1-84D8-35CC881A2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59F65-BEA0-4714-B657-428ED6478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2B096-642D-4533-9DE5-CECA517F5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93D95-E0CE-4A61-BF53-3137ADA21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5FA16-8386-4E07-BEDA-53FA2E7EE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EC7AF-4160-424B-8DBE-9722FF851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93269-5E0D-431F-B474-CA71818E6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E4B5C-C0E6-468F-8F55-E1B5D76A3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E50B5-6FCE-4964-A810-7A7391E54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F6EE5-E040-4D5A-8016-1A3C8BBD9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5F6B8-5592-4D92-8430-4BF574429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480F2-95D4-4B78-B632-3E1071F6F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ECE8D-E569-46E7-AC74-3ACA674BE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FE4E8-A191-4D8D-8BDD-529358E79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A25E3-C5F7-4CEB-87EF-2D9886E93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F1494-279E-4A2D-B0AC-31C47EA49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366FB-2350-4274-B578-FD1BDA37D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1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375D2-2D86-4E63-BB7A-83D87F28491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0BDE0-C2B2-4B32-B7C0-BFADD74E4D1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7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장 행동관리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371600" y="3645000"/>
            <a:ext cx="64008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고전행동주의와 신행동주의 차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-R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과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-R-S (ABC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수정의 관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거 또는 증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성취동기 향상 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보상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칭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흥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동기부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효능감과 귀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교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행동수정 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바람직한 행동의 증가 전략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적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적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토큰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할머니 법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remark Principle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계약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바람직하지 못한 행동의 감소 전략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소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연대책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학급관리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실의 물리적 배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의 조 편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좌석배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실생활 규칙 제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질문</a:t>
            </a: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?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979640" y="1844640"/>
            <a:ext cx="475308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0T03:46:38Z</dcterms:created>
  <dc:creator>.</dc:creator>
  <dc:description/>
  <dc:language>en-US</dc:language>
  <cp:lastModifiedBy>f</cp:lastModifiedBy>
  <dcterms:modified xsi:type="dcterms:W3CDTF">2007-05-02T01:29:10Z</dcterms:modified>
  <cp:revision>9</cp:revision>
  <dc:subject/>
  <dc:title>제 7장 체육교육과정</dc:title>
</cp:coreProperties>
</file>