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D1A47-6335-466C-8BE6-EABC9FFEB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B76BE-2312-423C-9B29-880CF4F3F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D4DF6-6FE7-452D-9190-222E256D3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5EC39-687D-46D7-89DD-D7C79D2BB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21CED-2005-4506-88AB-4E76B1D62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0E741-FCD9-4C2A-8855-0D7B969E0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178D6-53A3-4D1F-8EB6-CE705EC9D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CFE5D-9201-4CAE-9E01-2295E839B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19AF1-90AB-470A-B889-0C92FA203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A7D3F-E1A1-4224-998E-525DE468F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C0EF8-9E8B-4D88-8D49-7502B1005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C9291-CB64-43D2-A386-19DAC9F49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F935E-A025-4CBC-8080-7A18B8E61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BA4A0-A33E-4C1E-B046-D8E7F5C2C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69726-79BE-4764-A528-F4F2758DC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9F2B9-3805-45A0-9B3D-CAD42A37B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ED795-9C5A-41E2-AD7F-0600351BC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83229-73EC-4208-9EA7-0D5D20F79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CA273-C18C-4BDC-9025-929FF07DF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483BF-9268-41F1-A81E-BA7E417EC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31BDA-8558-4F38-9945-1DF450722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5F124-85AC-4972-8449-E535C2849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80977-D374-4D65-B138-6C7E36D7B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F94A6-9A0C-4CD1-AB11-B15E69E50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1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45643-35EB-4D32-8807-107696DFDE7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F9A52-6A5F-46A7-B96A-B5CA122E2A5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7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장 행동관리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371600" y="3645000"/>
            <a:ext cx="64008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고전행동주의와 신행동주의 차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-R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과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-R-S (ABC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수정의 관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거 또는 증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성취동기 향상 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보상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칭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흥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동기부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효능감과 귀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교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행동수정 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바람직한 행동의 증가 전략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적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적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토큰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할머니 법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remark Principle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계약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바람직하지 못한 행동의 감소 전략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소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연대책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학급관리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실의 물리적 배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의 조 편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좌석배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실생활 규칙 제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질문</a:t>
            </a: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?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979640" y="1844640"/>
            <a:ext cx="475308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0T03:46:38Z</dcterms:created>
  <dc:creator>.</dc:creator>
  <dc:description/>
  <dc:language>en-US</dc:language>
  <cp:lastModifiedBy>f</cp:lastModifiedBy>
  <dcterms:modified xsi:type="dcterms:W3CDTF">2007-05-02T01:29:10Z</dcterms:modified>
  <cp:revision>9</cp:revision>
  <dc:subject/>
  <dc:title>제 7장 체육교육과정</dc:title>
</cp:coreProperties>
</file>