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B6080-374E-4AB9-8901-641E033A0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F5EC1-E52C-4341-B44B-CBC581591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8A928-B781-44C8-84FB-030FD2BFF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991D3-9520-454F-A249-9C58A0AFA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7C763-EF50-476F-896D-8DE519E3D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76A2D-8BC3-461D-9392-46D6FF76D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C9BEC-3A68-4577-91DF-2F9797A97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2DB28-4EFD-4290-B3CF-AE1A55696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F1065-A20F-4FE0-BDA8-34A73A9EC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5557D-D52D-4627-A63B-FEF487BB0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C049A-413A-4A99-A094-E601A16B5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D056A-136A-4C74-9BEC-DF5F51B4C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834C8-7E3A-4990-B37D-2A2879EDB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37553-6534-4373-B903-269D475E4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6C4CD-A5D4-40D5-B987-00985E457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C5208-F5DF-42F2-B79B-BDC45F1D2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EA614-4DBF-4196-8816-7BE717014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69E03-EEBE-407C-9FF1-50CDC4A44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D3DE5-87DA-4A5B-85F5-CBB81D2B0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7D2C5-0D5F-4C7E-9B19-FF726F4B9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8DD36-5554-46D3-9FF1-17FEC899B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7ABD4-DC2A-4B3D-AF54-D9729F3BF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C0366-8E64-4F7E-ABF5-6DB36C56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6F71B-FA2D-4D22-B355-F427823FE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699DC-97E3-433C-8A3A-174791EF472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63359-760D-46A1-B341-5156018ECF7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ef6"/>
                </a:solidFill>
                <a:latin typeface="굴림"/>
              </a:rPr>
              <a:t>도료의 종류</a:t>
            </a:r>
            <a:br>
              <a:rPr sz="4400"/>
            </a:br>
            <a:r>
              <a:rPr b="0" lang="en-US" sz="32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dfdef6"/>
                </a:solidFill>
                <a:latin typeface="굴림"/>
              </a:rPr>
              <a:t>특수도료</a:t>
            </a:r>
            <a:endParaRPr b="0" lang="en-US" sz="32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를 제어하여 정보를 관리하고 안전을 보장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성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Fe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Cr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Fe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 주성분인 금속성 분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 수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첨가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테이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오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컴퓨터 테이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디스크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로피 디스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카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신용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도승차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기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속도로 통행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화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드럼 등과 같은 자기기록 매체 분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자성도료 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화합물의 열분해에 의한 불가역적인 색의 변화를 이용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온도의 변화에 따라 색이 변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특정온도에 따라 색의 변화가 뚜렷한 화합물이나 용융에 의해 상태가 변하는 화합물이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코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니켈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크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납 등이 이용되며 사용되는 화합물의 성분 중에는 아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암모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탄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브롬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산기를 함유한 것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식품의 안전 관리를 위해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시온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열이나 전자파 조사에 의한 도막 경화과정 중에 수백 마이크론 정도로 부풀어  입체감을 나타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미끄럼 방지 효과와 큐션성을 기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로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화도료는 발포용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착색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로 구성되며 방화성능 향상을 위해 인산을 주로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피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성수지 와 같은 소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포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 및 라디오파 차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대전방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표면오염 방지에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기기의 경량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단순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에너지 주파수 분포의 고밀도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플라스틱 재료 이용의 확대 등이 이루어짐에 따라 더욱 효과적이고 종합적인 개념의 전자파 차폐기술이 요구되며 이 때문에 전자파차폐 도료가 주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장비에 주로 사용되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전기 장해방지용 포장재료 이용을 위한 연구가 진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도전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81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해가스의 발생을 동반하는 연소의 진행을 막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가연성인 경우 기재의 난연화가 목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발포성 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불연성인 경우 도막의 단열작용으로 기재의 열 노화를 방지하여 가연물로 인한 연소를 방지하는 것이 목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초산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크릴 등의 난연성 바인더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산화 안티몬과 같은 난연조제물를 첨가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완전 불연성도료는 무기질바인더에 무기질 안료를 배합시킨 것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화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제어를 통해 기술적으로 방음을 할 수 있도록 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방음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전달경로에 벽을 세워 음을 반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단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흡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에너지를 흡수하여 소멸시키거나 작게 만드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원인을 억제 함에 의하여 음의 발생을 억제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제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어떠한 진동에 의해 발생되기에 진동을 차단하거나 흡수함에 의해 음의 방출을 감소시키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통기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확청장치나 악기연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학교나 유치원에서의 어린이 소리 등을 제어하는데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음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청강 등의 구조재에 손상을 입히는 녹을 방지하기 위해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불소수지도료와 세라믹도료가 각광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에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으로 도막수명을 연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세라믹도료의 경우 세라믹 안료와 알키드수지 또는 염화고무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관을 통해 전달되는 진동에 의한 소음을 방지하기 위해 적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스팔트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폭시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탈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멀션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계 등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두꺼운 도막을 형성하기에 다량의 충전제가 첨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석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 등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탄산칼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활석 등이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빌딩의 수도관이나 가스관에 적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량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축 및 그 밖에 여러 분야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진도료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12Z</dcterms:modified>
  <cp:revision>69</cp:revision>
  <dc:subject/>
  <dc:title>목질재료학 및 실험</dc:title>
</cp:coreProperties>
</file>